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9.jpeg" ContentType="image/jpeg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3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1887200" y="9448920"/>
            <a:ext cx="1028880" cy="2030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832440" y="9385200"/>
            <a:ext cx="50421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Principles of Computer System Design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</a:t>
            </a:r>
            <a:r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 Saltzer &amp; Kaashoek 2009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image" Target="../media/image13.pct"/><Relationship Id="rId3" Type="http://schemas.openxmlformats.org/officeDocument/2006/relationships/image" Target="../media/image14.pct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3.pct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image" Target="../media/image3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660240" y="3664080"/>
            <a:ext cx="11669760" cy="241272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628560" y="3784680"/>
            <a:ext cx="11862000" cy="7596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577800" y="5931000"/>
            <a:ext cx="11963520" cy="7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4724280" y="-22402800"/>
            <a:ext cx="3543480" cy="5454648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2"/>
          <a:stretch/>
        </p:blipFill>
        <p:spPr>
          <a:xfrm>
            <a:off x="165240" y="4216320"/>
            <a:ext cx="1612800" cy="43200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3"/>
          <a:stretch/>
        </p:blipFill>
        <p:spPr>
          <a:xfrm>
            <a:off x="2028960" y="2182680"/>
            <a:ext cx="10709280" cy="488952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4"/>
          <a:stretch/>
        </p:blipFill>
        <p:spPr>
          <a:xfrm>
            <a:off x="11887200" y="9448920"/>
            <a:ext cx="1028880" cy="20304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6896160" y="9385200"/>
            <a:ext cx="50925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Principles of Computer System Design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</a:t>
            </a:r>
            <a:r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 Saltzer &amp; Kaashoek 2009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4559400" y="-20865960"/>
            <a:ext cx="3886200" cy="5148576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2239920" y="2892600"/>
            <a:ext cx="9461520" cy="439704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3"/>
          <a:stretch/>
        </p:blipFill>
        <p:spPr>
          <a:xfrm>
            <a:off x="165240" y="4216320"/>
            <a:ext cx="1612800" cy="43200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4"/>
          <a:stretch/>
        </p:blipFill>
        <p:spPr>
          <a:xfrm>
            <a:off x="11887200" y="9448920"/>
            <a:ext cx="1028880" cy="20304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6896160" y="9385200"/>
            <a:ext cx="50925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Principles of Computer System Design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</a:t>
            </a:r>
            <a:r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 Saltzer &amp; Kaashoek 2009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117440" y="2625840"/>
            <a:ext cx="11341440" cy="472572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11887200" y="9448920"/>
            <a:ext cx="1028880" cy="20304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6896160" y="9385200"/>
            <a:ext cx="50925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Principles of Computer System Design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</a:t>
            </a:r>
            <a:r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 Saltzer &amp; Kaashoek 2009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749160" y="1843200"/>
            <a:ext cx="17322840" cy="605772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2"/>
          <a:stretch/>
        </p:blipFill>
        <p:spPr>
          <a:xfrm>
            <a:off x="11887200" y="9448920"/>
            <a:ext cx="1028880" cy="20304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6896160" y="9385200"/>
            <a:ext cx="50925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Principles of Computer System Design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</a:t>
            </a:r>
            <a:r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 Saltzer &amp; Kaashoek 2009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11887200" y="9448920"/>
            <a:ext cx="1028880" cy="20304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6896160" y="9385200"/>
            <a:ext cx="50925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Principles of Computer System Design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</a:t>
            </a:r>
            <a:r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 Saltzer &amp; Kaashoek 2009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660240" y="744480"/>
            <a:ext cx="11684160" cy="824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774720" y="3833640"/>
            <a:ext cx="11531520" cy="208440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628560" y="3784680"/>
            <a:ext cx="11862000" cy="7596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3"/>
          <a:stretch/>
        </p:blipFill>
        <p:spPr>
          <a:xfrm>
            <a:off x="577800" y="5931000"/>
            <a:ext cx="11963520" cy="7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574560" y="2776680"/>
            <a:ext cx="12065040" cy="46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596880" y="2676600"/>
            <a:ext cx="1163340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3997440" y="888840"/>
            <a:ext cx="4838760" cy="772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3417840" y="1508040"/>
            <a:ext cx="6337440" cy="692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85760" y="3670200"/>
            <a:ext cx="12928680" cy="193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1384200" y="1216080"/>
            <a:ext cx="10639440" cy="607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515880" y="3263760"/>
            <a:ext cx="11828520" cy="317520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2"/>
          <a:stretch/>
        </p:blipFill>
        <p:spPr>
          <a:xfrm>
            <a:off x="11887200" y="9448920"/>
            <a:ext cx="1028880" cy="20304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6896160" y="9385200"/>
            <a:ext cx="50925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Principles of Computer System Design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</a:t>
            </a:r>
            <a:r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 Saltzer &amp; Kaashoek 2009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066680" y="1662120"/>
            <a:ext cx="11595240" cy="685008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2"/>
          <a:stretch/>
        </p:blipFill>
        <p:spPr>
          <a:xfrm>
            <a:off x="11887200" y="9448920"/>
            <a:ext cx="1028880" cy="20304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6896160" y="9385200"/>
            <a:ext cx="50925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Principles of Computer System Design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</a:t>
            </a:r>
            <a:r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 Saltzer &amp; Kaashoek 2009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