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1887200" y="9448920"/>
            <a:ext cx="1028880" cy="203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32440" y="9385200"/>
            <a:ext cx="5042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Principles of Computer System Desig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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 Saltzer &amp; Kaashoek 2009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874800" y="2552760"/>
            <a:ext cx="1134900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636480" y="3517920"/>
            <a:ext cx="11841120" cy="27050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577800" y="5778360"/>
            <a:ext cx="11963520" cy="763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628560" y="3594240"/>
            <a:ext cx="11862000" cy="7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596880" y="528480"/>
            <a:ext cx="11798280" cy="795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674640" y="2975040"/>
            <a:ext cx="1181088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638280" y="2381400"/>
            <a:ext cx="11879280" cy="49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52320" y="1808280"/>
            <a:ext cx="11836440" cy="61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673200" y="833400"/>
            <a:ext cx="11810880" cy="798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