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wmf" ContentType="image/x-wmf"/>
  <Override PartName="/ppt/media/image7.jpeg" ContentType="image/jpe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65330B-D49F-41D7-B220-3DB3E5C62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054720-8421-432F-A9F0-1506065143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C1BD6B-DAE8-48B4-A34C-6C1EBF2298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ED0790-4FDD-48F6-AE1A-BB258E8903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E14B37-F149-4C79-9C0E-2D06955AAD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08556F-CD05-4E98-9CD7-19386DDD74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85FDF9-F591-4E0B-B270-4FBED560A3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1926DF-A518-4788-A26F-2864E19C66B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EB2ED4-9208-4C9C-8454-07150AE0CB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7BAE22-7F43-4F23-BC01-4CA166E0758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E5331F-D365-4BA8-99EC-123DFDF3C3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DF9699-9B2D-43D3-ADEA-509A7825E0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43C7C6-BB7B-459B-9435-7B87281C22E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39C0A5-DEAB-420B-90AF-1EE935E839B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230C8A-967E-4B00-8ACE-DAA7D1F1801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C2D8C5-2C48-470E-AA70-BEA8070491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B76175-A557-4BE4-8C72-364F59F9AC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CC18C6-57BD-490E-A996-8912C21C508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F30182-682D-4B8A-AA87-FC27447A11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9B84-37A2-422C-A698-FE376D624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E7F1-9F32-4724-89C0-0CC2E1086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2BDC-09DD-4897-AF6D-455CF4A0D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59AE-4F83-4B68-A7A9-B0582602B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862A-CF71-4E69-AACD-15B6C841B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EC6F-7E45-4EB7-8C52-0EF2EF400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3764-449A-46BC-AFA3-F3DDF825B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BA85-D3E4-4DC0-9853-466150BAD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7E11-0D49-4A13-B52F-530F80449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507F-FF56-4E6D-86F9-70A097A2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9FE3-BCF5-48A9-9AC5-542BD31D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F697-210F-4ED7-AF22-C57FD822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6A50C-0122-4960-967D-44B0DA6065D1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264 Lecture 36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lecom: Wireless networ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898000" y="5719680"/>
            <a:ext cx="31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lease do subject evaluation onlin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ireless LAN service se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440" y="12952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room or area is a typical BSS (basic service set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ESS is a set of rooms and areas in the L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tions capabilities may b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ionary on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 move within a single BSS (ad hoc or infrastructur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 move between BSS, but communication may not be continuous during the mo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048280" cy="2532240"/>
          </a:xfrm>
          <a:prstGeom prst="rect">
            <a:avLst/>
          </a:prstGeom>
          <a:ln w="0">
            <a:noFill/>
          </a:ln>
        </p:spPr>
      </p:pic>
      <p:sp>
        <p:nvSpPr>
          <p:cNvPr id="84" name="TextBox 6"/>
          <p:cNvSpPr/>
          <p:nvPr/>
        </p:nvSpPr>
        <p:spPr>
          <a:xfrm>
            <a:off x="7662240" y="6473880"/>
            <a:ext cx="14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rom Forouzan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ireless LAN issu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Fi (802.11b, 802.11g, 802.11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pensive, pervasive, reliable, easy to mana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t spots common, but unscalable for metro area u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nge ~100 meters: ok within buildings, campus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ndwidth: 11 Mbps (b), 54 Mbps (g), 100 Mbps (n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ual bandwidth often half of nominal due to interference, fading, et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lf of traffic at many companies is non-work (music or video streaming, Web access, personal email, …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urity is difficult, because signals propagate beyond the building or si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P easy to break; use WPA and WPA2 instea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n’t use WPS (WiFi protected setup); it has a security flaw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nicipal network plans problematic (30+ points/sq m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a warehouse, what type of LAN would you set up (ad hoc, BSS, ESS), and why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ume there are forklifts and other vehicles oper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ume there are pick/pack stations, conveyors, et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ould you try to lay out the network to minimize handoffs, or is that not important? Why or why not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802.11b, how would you stream video from 25 forklifts/vehicles in the warehous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ume your video is 1.5 Mbp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t up an ESS, to allow handoffs and to connect all devices/stations to the WAN if need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y out the network to cover aisles/areas that minimize handoff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munications is not continuous in wireless LAN handoff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deo: 802.11b is 11 Mbps, or 5.5 Mbps practical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need 25 * 1.5 Mbps, or 37.5 Mbps, or at least 8 BSS, which is one AP for every 3 vehicles in an are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cause of interference, fading, etc. you may need m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you use 802.11n, at 100 Mbps nominal or 50 Mbps actual, you may find 2 APs sufficient (1 for redundancy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obile telephon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bile telephony is dominant. Alternatives ar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ecialized mobile radio (SMR), used primarily for local dispat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bout 3,000 licensed SMR providers in US (taxi, trucking..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xtel bought many SMR providers and created national network: radio, cell phone, data, messagin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xtel uses variation on GSM cellular technolog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vate mobile radio service (police, fire, railroads…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ared frequencies among all us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se stations, repeaters; squelch or tone contro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unking radio (multiple channels) used by larger organiz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5920" indent="-19656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ne control channel to which all units liste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375920" indent="-19656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alk channel then designated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se options use spectrum less well than cell phon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ing pushed to narrowband; other measur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obile (cellular) telephon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cell phone is a radi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fore cell phones, there was mobile radio, with one tower per metro area and about 25 chann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 phones had to be high powered but for little usa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llular telephony divides a metro area into cells for much, much more capac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32 channels in standard US cellular radio spectrum band; European GSM varies but simil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p to 5 more bands have been allocated via auction in 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one can operate on any of these 1,000+ chann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llular switches are called Mobile Telephone Switching Offices, or MTSO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nctions same as standard telco voice switch, plus handoff across cells, for voice cal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ndles TCP/IP data for data and vide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SM (2G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SM is European standard, adopted worldwide and increasingly in 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’s a 2G (second generation) standard, being superseded by 3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switches voice calls, like landlines, and is being replaced by voice over I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voice band is 13 kbps (versus 64 kbps fiber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ndard GSM has 124 chann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channel is 270.8 kbps carried in 200 kHz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 users per chann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SM can (re)use 1/3 of channels in each cell, due to good error correc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pacity =~ 124 channels * 8 users/channel * 1/3 reuse= 329 calls (users) per ce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SM data is carried over GPRS (General Packet Radio Services), often considered 2.5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G wirel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orldwide standard, though frequency bands vary by reg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aming phones must use different frequency ban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re are a few common frequency bands worldw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igned for many service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l-time gam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oi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le download and uplo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de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 and emai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G data protocols are WCDMA, HSP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broad use, continue to evolve new feat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ll be supported for many years until full 4G usa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rates of 500 kbps to 1 Mbps typ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G wirel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G is also called LTE (long term evolution) and release 8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ndard is 3GPP (in GSM lineag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 backward compatible with 3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irely IP based; no voice switched traffi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rts spectrum flexibility for worldwide op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ndoffs at 350 km/hr to support high speed rai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ny individual phone supports limited spectrum, since RF and filter design are expensive/inflexi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rates of up to 20 Mbps typ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arcity of bandwidth resulting in throttling of u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MA (50% of US) 1x-EV-DO Rev C is very similar to LTE, and is converging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ndard is 3GPP2 (in CDMA lineag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requency reuse in cellular telephon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938160" y="1460520"/>
            <a:ext cx="7139160" cy="45594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"/>
          <p:cNvSpPr/>
          <p:nvPr/>
        </p:nvSpPr>
        <p:spPr>
          <a:xfrm>
            <a:off x="1094040" y="601992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is a 7-cell pattern; 9-cell is also comm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ign a system for an intercity rail passenger train to provide Internet access to its passengers and operating crew. Address each challenge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tro areas: frequent physical obstructions, such as underpasses, tall building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ne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ural areas: gaps in cellular coverage, trees, hills obstruct line of sigh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tiple applications: what to do when a user wants to download a 200MB fi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twork changes: train goes through many networks of varying quality at varying speed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ption in passenger cars: metal car bodies affect sign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ellular serving pl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5" name="Picture 4" descr="Lec21e"/>
          <p:cNvPicPr/>
          <p:nvPr/>
        </p:nvPicPr>
        <p:blipFill>
          <a:blip r:embed="rId1"/>
          <a:stretch/>
        </p:blipFill>
        <p:spPr>
          <a:xfrm>
            <a:off x="1836720" y="990720"/>
            <a:ext cx="5630760" cy="54864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7"/>
          <p:cNvSpPr/>
          <p:nvPr/>
        </p:nvSpPr>
        <p:spPr>
          <a:xfrm>
            <a:off x="1006200" y="6521400"/>
            <a:ext cx="758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mple honeycomb pattern rarely holds. Actual cell coverage highly variable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15238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ume LTE can provide 20 Mbps to areas with industry/warehousing t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a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location serv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ume 100 locations in the ce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ume each has 10 Web users (1 Mbps), 1 Web/data server (5 Mbps), limited videoconference/video (4 Mbp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tal bandwidth for each location is 10 Mbps (1+5+4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are LTE to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SL (1.5-13 Mbps, asymmetric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TV (30-300 Mbps, asymmetric but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hare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ver all 100 us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1 over copper (1.5 Mbps, symmetric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igabit Ethernet MAN (1 Gbps, symmetric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n LTE solve the ‘last mile’ problem sometime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average user needs 10 Mbp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SL (1.5-13 Mbps) may meet it in some cases, but usually not. DSL usually 3-6 Mbp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TV has 30-300 Mbps, but 100 users *10 Mbps= 1 Gbps. CATV would need many segments; not effectiv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1 over copper (1.5 Mbps) is not enoug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igabit Ethernet MAN is plenty, of cour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TE (20 Mbps) is sufficient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i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bandwidth is available. In lower and medium density areas, it should be ok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cell can handle 100+ channels at 20 Mbp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TE appears to solve the ‘last mile’ problem for residences (low/medium density) and low/medium density small business, but not major bandwidth us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ong-range wireless: satellite communicatio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8016840" cy="56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atellites (wireless WAN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O satellites are on the equator and orbit every 24 hours, appearing station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 satellites 120 degrees apart can cover the Ear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O orbits are between the two Van Allen belts of charged particles that would destroy a satelli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O satellites orbit every 6 to 8 hou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PS is a set of 24 MEO satellites in 6 orbits, designed so 4 satellites are always visible from any point on Ear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PS triangulates among the 4 satellites to determine position in 3D; it computes intersection of sphe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O satellites are in polar orbi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y orbit every 90 to 120 minu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y are managed like a set of cells on Ear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ttle” LEOs: text messaging (e.g. trucking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” LEOs: Iridium, Globalstar (e.g. sat phone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oadband LEOs: network video, other broadba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EO satellite applicatio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marsat for marine and remote applica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00,000 ships, vehicles, aircraf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32 kbps Internet access data rate, 11 satelli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se service ended in 2005 for commercial vess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ery small aperture terminal (VSAT): 56 kbps- 4 Mbps for remote areas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areas can get 18 Mbps down, 4 Mbps u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st data rates 512 kbps or less down, 128 kbps u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tellite Internet providers’ for rural consum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SAT operators for Africa, other areas without fi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V programming distribu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rect broadcast TV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EO, LEO satellite applicatio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12952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oadband LEO: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ldesic, similar to fiber, fail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g LEO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ridium not successful but still oper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o expensive to compete with terrestrial cell servi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6 satellites, each with 48 spot beams: ~2000 cel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oice, fax, paging at 2.4 to 4.8 kbp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lobalstar has 48 satellites, similar service as Iridiu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ttle LEO: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ucking and rail information systems, pag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O: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lobal positioning system (GP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atellite link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0" name="Picture 4" descr="Lec21d"/>
          <p:cNvPicPr/>
          <p:nvPr/>
        </p:nvPicPr>
        <p:blipFill>
          <a:blip r:embed="rId1"/>
          <a:stretch/>
        </p:blipFill>
        <p:spPr>
          <a:xfrm>
            <a:off x="1254240" y="1981080"/>
            <a:ext cx="6634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atellite dat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la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50 milliseconds (1/4 second) delay between two Earth stations communicating via geosynchronous (GEO) satellit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lay noticeable for voice communic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lay requires special treatment of dat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CP/IP will assume network congestion or dropped packets with these delays; must use special parameters or equipment to spoof acknowledgement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in absorp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n transit outage at equinox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wer is limited on satelli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mited signal to noise ratio, limits bandwidt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rect Broadcast Satellite (DBS) satellites are overpowered to allow small consumer antennas; overall system costs are hig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ittle room left for satellites in equatorial (GEO) orbi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operate a diamond mine in northern Canada and need 20 Mbps to remotely monitor and diagnose mining equipment, provide Internet and some video for employees, handle email and files, et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are GEO, big LEO, little LEO, broadband LEO, MEO to meet your nee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re would the other end of the satellite link connect? Does it matter? Options are your corporate HQ, a large peering point, et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Line 4"/>
          <p:cNvSpPr/>
          <p:nvPr/>
        </p:nvSpPr>
        <p:spPr>
          <a:xfrm flipV="1">
            <a:off x="990720" y="3962160"/>
            <a:ext cx="7772400" cy="68580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886200" y="51055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il 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914400" y="3809880"/>
            <a:ext cx="11430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6019920" y="3886200"/>
            <a:ext cx="9903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nn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2362320" y="3124080"/>
            <a:ext cx="304560" cy="12956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2819520" y="4191120"/>
            <a:ext cx="304560" cy="1143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2956320" y="31640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ilding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4191120" y="4267080"/>
            <a:ext cx="990360" cy="1526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3889440" y="3809880"/>
            <a:ext cx="175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derpas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Line 14"/>
          <p:cNvSpPr/>
          <p:nvPr/>
        </p:nvSpPr>
        <p:spPr>
          <a:xfrm flipH="1" flipV="1">
            <a:off x="3886200" y="449532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7529400" y="2782800"/>
            <a:ext cx="10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ra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e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7315560" y="4307040"/>
            <a:ext cx="17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lls, tre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you need 20 Mbps up and down in northern Canada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O offers max 18 Mbps down and 4 Mbps up, and not in all areas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lar areas are strange: beams are turned off from lack of demand but could possibly be turned 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ight need 5 connections, which would be expensive…but a diamond mine can probably pay 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 LEO and Little LEO are low bandwid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O does not offer data servi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oadband LEO (Teledesic) fail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y connect near corporate HQ to use MAN from ground station to HQ for cost, bandwidth, security reas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lossar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838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SS: Basic service set (WiFi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S: Extended service set (WiFi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P: Wired Equivalent Privacy (WiFi security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PA: WiFi Protected Access (WiFi security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MR: Specialized Mobile Radi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MA: Code Division Multiple Access (US wireles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SM: Global System for Mobile Communications (wireless voice standard, worldwid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PRS: General Packet Radio Service, over GS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CDMA: Wideband Code Division Multiple Access (3G data standard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SPA: High Speed Packet Access (3G data std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GPP: 3G Partnership Project (sets 3G/4G std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x EV-DO: Evolution-Data Optimized (3G CDMA std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ro area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tiple cellular data carri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rver on train chooses best signal, maintains continuit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 WiFi (wireless LAN) at st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nels (short ones)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rver on train caches Web content, handles email via store and forwar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ng tunnels require leaky fiber and/or base st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ural area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tiple cellular data  carriers, and satellite servic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in train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tennas mounted on multiple cars, wireless LAN between cars so any antenna can serve all ca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er, application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n train server manages traffic, ensures ‘fairness’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rver handles authentication and billin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(How do long distance trucking, buses do this?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exampl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9" name="Picture 4" descr="RailWirelessLec22"/>
          <p:cNvPicPr/>
          <p:nvPr/>
        </p:nvPicPr>
        <p:blipFill>
          <a:blip r:embed="rId1"/>
          <a:stretch/>
        </p:blipFill>
        <p:spPr>
          <a:xfrm>
            <a:off x="380880" y="1066680"/>
            <a:ext cx="8382240" cy="55404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6"/>
          <p:cNvSpPr/>
          <p:nvPr/>
        </p:nvSpPr>
        <p:spPr>
          <a:xfrm>
            <a:off x="6603120" y="6581880"/>
            <a:ext cx="22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pointshotwireless.co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example: Amtrak wireless coverag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905120" y="990720"/>
            <a:ext cx="5072040" cy="5581440"/>
          </a:xfrm>
          <a:prstGeom prst="rect">
            <a:avLst/>
          </a:prstGeom>
          <a:ln w="0">
            <a:noFill/>
          </a:ln>
        </p:spPr>
      </p:pic>
      <p:sp>
        <p:nvSpPr>
          <p:cNvPr id="73" name="TextBox 1"/>
          <p:cNvSpPr/>
          <p:nvPr/>
        </p:nvSpPr>
        <p:spPr>
          <a:xfrm>
            <a:off x="7294320" y="6400800"/>
            <a:ext cx="168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ource: Amtrak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adio propag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sse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ee space lo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mospheric attenuation: rain, water, du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ath loss: water body or fog causes reflections, and signals arrive out of phase at destin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ffraction: hills, buildings, obstruc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tenna proble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now, icing (use heaters, radome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oning restrictions (hide antennas in building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crowave frequencies are line of sigh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have like light, can be focused and refl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se issues hold for mobile phones, wireless data, satellites als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adio lo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7" name="Picture 4" descr="Lec21b"/>
          <p:cNvPicPr/>
          <p:nvPr/>
        </p:nvPicPr>
        <p:blipFill>
          <a:blip r:embed="rId1"/>
          <a:stretch/>
        </p:blipFill>
        <p:spPr>
          <a:xfrm>
            <a:off x="2286000" y="990720"/>
            <a:ext cx="4479840" cy="217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Lec21c"/>
          <p:cNvPicPr/>
          <p:nvPr/>
        </p:nvPicPr>
        <p:blipFill>
          <a:blip r:embed="rId2"/>
          <a:stretch/>
        </p:blipFill>
        <p:spPr>
          <a:xfrm>
            <a:off x="1905120" y="3352680"/>
            <a:ext cx="5329080" cy="33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ireless L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reless LAN (WiFi) standard is IEEE 802.1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types of wireless LA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Ad ho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where stations (computers) directly conne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Infrastructur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with an access point (AP) that connects to a wired LAN and usually a MAN/WA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tributed coordination required between stations due to collis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rier sense multiple access/collision avoidance (CSMA/CA) protocol is used, as discussed earli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reless environment is very nois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ames are fragmented into small frames so retransmission, which is frequent, is more effici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2013-12-06T00:37:43Z</cp:lastPrinted>
  <dcterms:modified xsi:type="dcterms:W3CDTF">2013-12-07T14:39:08Z</dcterms:modified>
  <cp:revision>257</cp:revision>
  <dc:subject/>
  <dc:title>1.264 Lecture 5</dc:title>
</cp:coreProperties>
</file>